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B0BF-074D-4C51-8E00-7E3ED7009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76676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3600" y="4200840"/>
            <a:ext cx="76676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3760-7BBD-454A-AD02-AB41B9A4C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360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264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B400-DC25-42BA-8E91-D8BBF3E59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320" y="205236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205236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3600" y="420084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320" y="420084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20084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E1A9-A700-47B7-BB76-907B2890E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3600" y="2052360"/>
            <a:ext cx="76676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766764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3600" y="611280"/>
            <a:ext cx="766764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360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3600" y="2052360"/>
            <a:ext cx="76676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4E42-7826-4112-972E-5826A7930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264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3600" y="4200840"/>
            <a:ext cx="76676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76676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23600" y="4200840"/>
            <a:ext cx="76676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360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264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320" y="205236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205236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23600" y="420084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320" y="420084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200840"/>
            <a:ext cx="24688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766764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C467-5F9C-4076-B8D9-20E8D9D99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9809-7761-4618-A11F-F8DC3A4D2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5550-1A14-4F9F-827A-EB3590DE4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3600" y="611280"/>
            <a:ext cx="766764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BA5C-20D8-4AF1-AD24-7AF8FF172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360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8EC8-6333-4979-ADE5-3A45D32BB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2640" y="420084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D1C8-8E4C-426D-9008-EE8BA0112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2640" y="2052360"/>
            <a:ext cx="374148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3600" y="4200840"/>
            <a:ext cx="76676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1143-5635-4103-8982-3C5578550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3600" y="2052360"/>
            <a:ext cx="766764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916-DF6B-4479-A486-33D9FFFE19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1419120"/>
            <a:ext cx="8372160" cy="5058000"/>
          </a:xfrm>
          <a:custGeom>
            <a:avLst/>
            <a:gdLst/>
            <a:ahLst/>
            <a:rect l="l" t="t" r="r" b="b"/>
            <a:pathLst>
              <a:path w="5266" h="300">
                <a:moveTo>
                  <a:pt x="0" y="0"/>
                </a:moveTo>
                <a:lnTo>
                  <a:pt x="0" y="300"/>
                </a:lnTo>
                <a:lnTo>
                  <a:pt x="5266" y="300"/>
                </a:lnTo>
              </a:path>
            </a:pathLst>
          </a:custGeom>
          <a:noFill/>
          <a:ln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524240" cy="117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8760" y="3475080"/>
            <a:ext cx="6325920" cy="102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100" spc="-1" strike="noStrike">
                <a:solidFill>
                  <a:srgbClr val="ffffff"/>
                </a:solidFill>
                <a:latin typeface="Arial"/>
                <a:ea typeface="Arial"/>
              </a:rPr>
              <a:t>A ÉTICA NA ERA DA INFORMAÇÃO</a:t>
            </a:r>
            <a:r>
              <a:rPr b="1" lang="en-US" sz="5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267080"/>
            <a:ext cx="8991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NÚCLEO DE PESQUISAS E PUBLICAÇÕES NPP – FGV/EA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PROGRAMA INSTITUCIONAL DE BOLSAS DE INICIAÇÃO CIENTÍF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8f8f8"/>
                </a:solidFill>
                <a:latin typeface="Arial"/>
                <a:ea typeface="Arial"/>
              </a:rPr>
              <a:t>BOLSISTA: LUCIANA VELOSO R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ORIENTADORA: Dra. MARIA CECÍLIA COUTINHO DE ARRUDA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SÃO PAULO / SP -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8153280" cy="46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lnSpc>
                <a:spcPct val="16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Levantamento bibliográfico feito não apenas no Brasil mas também em fontes norte-americanas e européias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61800" indent="-361800">
              <a:lnSpc>
                <a:spcPct val="16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bordagem recente de papers e artigos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61800" indent="-361800">
              <a:lnSpc>
                <a:spcPct val="16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Ethics and Information Technology - Netherlands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C8A8-6503-449B-B054-3CE47825DB81}" type="slidenum">
              <a:t>10</a:t>
            </a:fld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6764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52520" indent="-452520">
              <a:lnSpc>
                <a:spcPct val="13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Realizado um trabalho de campo na General Electric do Brasil através de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54200" indent="-301680">
              <a:lnSpc>
                <a:spcPct val="27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Questionários (hipóteses)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54200" indent="-301680">
              <a:lnSpc>
                <a:spcPct val="27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dministração e análise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lnSpc>
                <a:spcPct val="2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A104-B43B-4A0E-884F-D7DB72CE6659}" type="slidenum">
              <a:t>11</a:t>
            </a:fld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8f8f8"/>
                </a:solidFill>
                <a:latin typeface="Arial"/>
              </a:rPr>
              <a:t>Metodologia </a:t>
            </a:r>
            <a:endParaRPr b="1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447920"/>
            <a:ext cx="784836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pt-BR" sz="3000" spc="-1" strike="noStrike">
                <a:solidFill>
                  <a:srgbClr val="000099"/>
                </a:solidFill>
                <a:latin typeface="Arial"/>
              </a:rPr>
              <a:t>Austin, TX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– entrevista com Nuhsar Ertuk,  turco, radicado nos Estados Unidos, engenheiro efetivo da Dell Compu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local e dur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função na De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confirmou o previsto (correio eletrônic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7AAB-A3EC-45F2-B9DB-779ED18F79CC}" type="slidenum">
              <a:t>12</a:t>
            </a:fld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Dificuldade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62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Dificuldade de entrevistar alguém em posição semelhante em empresa fabricante de SI tal qual a Dell Computers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resistência por parte dos funcionários da GE quanto ao preenchimento dos questionários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dificuldade de penetração na empresa sob a argumentação de “Pesquisa de Iniciação Científica”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9799-ACB5-4CDE-AC05-FAA50B62DA2C}" type="slidenum">
              <a:t>13</a:t>
            </a:fld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Limitações 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Algumas pessoas e não a totalidade dos funcionários da empresa responderam ao questionário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extrapolação;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Arial"/>
              </a:rPr>
              <a:t>premissa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i="1" lang="pt-PT" sz="3000" spc="-1" strike="noStrike">
                <a:solidFill>
                  <a:srgbClr val="000099"/>
                </a:solidFill>
                <a:latin typeface="Arial"/>
                <a:ea typeface="Arial"/>
              </a:rPr>
              <a:t>GE</a:t>
            </a:r>
            <a:r>
              <a:rPr b="0" lang="pt-PT" sz="3000" spc="-1" strike="noStrike">
                <a:solidFill>
                  <a:srgbClr val="000099"/>
                </a:solidFill>
                <a:latin typeface="Arial"/>
                <a:ea typeface="Arial"/>
              </a:rPr>
              <a:t> representa bem o perfil das grandes empresas instaladas neste país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É a quarta marca mais valiosa do mundo (</a:t>
            </a:r>
            <a:r>
              <a:rPr b="0" i="1" lang="pt-BR" sz="3000" spc="-1" strike="noStrike">
                <a:solidFill>
                  <a:srgbClr val="000099"/>
                </a:solidFill>
                <a:latin typeface="Arial"/>
              </a:rPr>
              <a:t>pioneira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?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9900-A668-4D45-8F64-0BB4DCC5BAD2}" type="slidenum">
              <a:t>14</a:t>
            </a:fld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Críticas e considerações finai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lguns dos problemas éticos relativos à TI são reconhecidos pelas empresas e abordados em seus manuais de ética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Questões ainda muito simplistas como é o exemplo da política de uso do correio eletrônico (relevante mas trivial).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BF06-0236-460A-A34B-1BC5536EF982}" type="slidenum">
              <a:t>15</a:t>
            </a:fld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Críticas e considerações finai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76676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26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É necessário acordar para a necessidade de enfrentar e antever os problemas éticos relacionados ao uso da Tecnologia da Informação.</a:t>
            </a:r>
            <a:r>
              <a:rPr b="0" lang="pt-P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E914-C7CA-4422-B848-CD24354516FC}" type="slidenum">
              <a:t>16</a:t>
            </a:fld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Sugestõe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67640" cy="50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99"/>
                </a:solidFill>
                <a:latin typeface="Arial"/>
                <a:ea typeface="Arial"/>
              </a:rPr>
              <a:t>Grandes corporações levantem o debate para posterior estabelecimento de resoluções normas de conduta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99"/>
                </a:solidFill>
                <a:latin typeface="Arial"/>
                <a:ea typeface="Arial"/>
              </a:rPr>
              <a:t>posição pessimista no tocante aos egoísmos e mazelas que o ser humano é capaz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75D1-0132-40EF-B58F-626B498E0451}" type="slidenum">
              <a:t>17</a:t>
            </a:fld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8f8f8"/>
                </a:solidFill>
                <a:latin typeface="Arial"/>
              </a:rPr>
              <a:t>Introdução</a:t>
            </a:r>
            <a:endParaRPr b="1" lang="en-US" sz="27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Arial"/>
              </a:rPr>
              <a:t>O impacto das novas tecnologias de comunicação na economia e na cultura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Arial"/>
              </a:rPr>
              <a:t>Longo e intenso processo de acumulação de conhecimento científico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Arial"/>
              </a:rPr>
              <a:t>Novas ferramentas têm mudado a vida das pessoas, é natural que causem perplexidade e certa fascinação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A968-FDED-45F4-959E-67443CB5D828}" type="slidenum">
              <a:t>2</a:t>
            </a:fld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Introdução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3600" y="2052360"/>
            <a:ext cx="766764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514600"/>
            <a:ext cx="7543800" cy="28195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8f8f8"/>
                </a:solidFill>
                <a:latin typeface="Arial"/>
                <a:ea typeface="Arial"/>
              </a:rPr>
              <a:t>Quais são as questões éticas surgidas devido à crescente utilização da TI ?</a:t>
            </a:r>
            <a:r>
              <a:rPr b="1" i="1" lang="en-US" sz="4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9BA2-87EA-421B-91C0-6F9FCAE11B47}" type="slidenum">
              <a:t>3</a:t>
            </a:fld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8f8f8"/>
                </a:solidFill>
                <a:latin typeface="Arial"/>
              </a:rPr>
              <a:t>Objetivos</a:t>
            </a:r>
            <a:endParaRPr b="1" lang="en-US" sz="27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6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 algn="just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Arial"/>
              </a:rPr>
              <a:t>Identificar e conhecer as questões éticas mais relevantes surgidas na Era da Informação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Arial"/>
              </a:rPr>
              <a:t>Como objetivos secundários, temos..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9120"/>
            <a:ext cx="8372160" cy="5058000"/>
          </a:xfrm>
          <a:custGeom>
            <a:avLst/>
            <a:gdLst/>
            <a:ahLst/>
            <a:rect l="l" t="t" r="r" b="b"/>
            <a:pathLst>
              <a:path w="5266" h="300">
                <a:moveTo>
                  <a:pt x="0" y="0"/>
                </a:moveTo>
                <a:lnTo>
                  <a:pt x="0" y="300"/>
                </a:lnTo>
                <a:lnTo>
                  <a:pt x="5266" y="300"/>
                </a:lnTo>
              </a:path>
            </a:pathLst>
          </a:custGeom>
          <a:noFill/>
          <a:ln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7C92-42AA-4B6B-8AB3-BB57992BF71A}" type="slidenum">
              <a:t>4</a:t>
            </a:fld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Objetivos Secundário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534520" cy="42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31520" indent="-292680">
              <a:lnSpc>
                <a:spcPct val="15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Sensibilizar e alertar os agentes, usuários, criadores, pesquisadores, empresários, professores ligados aos SI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31520" indent="-292680" algn="just">
              <a:lnSpc>
                <a:spcPct val="15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Conscientizar “</a:t>
            </a:r>
            <a:r>
              <a:rPr b="0" i="1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decision makers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” sobre a necessidade de se atuar eticamente no design da TI  (tratamento ético desde o início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F1A4-CD62-42D0-BD39-E34CBD9618F3}" type="slidenum">
              <a:t>5</a:t>
            </a:fld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86680"/>
            <a:ext cx="2895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Resultado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54120"/>
            <a:ext cx="824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219320"/>
            <a:ext cx="8153280" cy="51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2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O mundo corporativo não antecipa problemas mais graves e aborda em seus manuais de ética apenas questões triviais relativas ao meio empresarial no horizonte de curto praz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226F-7CE5-4052-BEA2-F3E1633DFBD8}" type="slidenum">
              <a:t>6</a:t>
            </a:fld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Resultado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3600" y="1371240"/>
            <a:ext cx="7667640" cy="47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23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ética da informação e computacional enquanto nova disciplina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24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questão da censura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24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propagação do racismo através da TI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6DDA-D767-4F30-851C-A2F7E396C139}" type="slidenum">
              <a:t>7</a:t>
            </a:fld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Resultado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676520"/>
            <a:ext cx="746784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guerra informacional travada no ambiente virtual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robótica e a desmoralização do ser human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lei e a sociedade informacional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EA75-CE4F-45CC-8564-55528B81D643}" type="slidenum">
              <a:t>8</a:t>
            </a:fld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600" y="611280"/>
            <a:ext cx="7667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Arial"/>
              </a:rPr>
              <a:t>Resultados</a:t>
            </a: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447920"/>
            <a:ext cx="800100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22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o comércio eletrônico e o discurso livre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22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o spam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22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questão do plágio e direitos autorai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220000"/>
              </a:lnSpc>
              <a:spcBef>
                <a:spcPts val="18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a questão da privacidade informacion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9038-EF55-4525-B432-DB47FC4ED3D4}" type="slidenum">
              <a:t>9</a:t>
            </a:fld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20:52:23Z</dcterms:created>
  <dc:creator>Alessandra.Flores</dc:creator>
  <dc:description>PowerPoint General 1-Color Overhead Presentation Template.  Andersen Consulting Firmwide Templates v9.0.</dc:description>
  <dc:language>en-US</dc:language>
  <cp:lastModifiedBy>Administrator</cp:lastModifiedBy>
  <cp:lastPrinted>1998-03-21T22:03:06Z</cp:lastPrinted>
  <dcterms:modified xsi:type="dcterms:W3CDTF">2002-10-29T19:12:45Z</dcterms:modified>
  <cp:revision>282</cp:revision>
  <dc:subject>Presentation Template Designs</dc:subject>
  <dc:title>PowerPoint Presentation</dc:title>
</cp:coreProperties>
</file>